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0E1-BED6-4A86-AC29-8FD229B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1FB-6DBB-4AA0-AC00-09ADBA7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728-703C-4C74-8BBC-E2E31EAB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A20-7151-48ED-BC1C-C60F54B5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0E1-667B-4DFE-A9A0-26D2615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59E-8411-4CCA-8C6C-C352437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14C-821B-428A-AC81-1B622E42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5F1-CDD5-45C4-9D00-0A4B2C4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C49-736C-40E5-BFB5-B5FB31BC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FCA-F3A1-4BDF-BDF0-7E99BFD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A31-4366-4108-8A1B-99173DF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F6B-F9E4-4D09-8C55-AED9F37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49F2-192E-4871-B7D3-B04FEE92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57200"/>
          <a:ext cx="80773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8077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POLLUT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Google logo is stop polluting. In the future the worlds air might change color. I Want my logo to mean “We might not have clean air soon so STOP pollu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49:37Z</dcterms:created>
  <dc:creator>Computer Lab</dc:creator>
  <dc:description/>
  <dc:language>en-US</dc:language>
  <cp:lastModifiedBy>Computer Lab</cp:lastModifiedBy>
  <dcterms:modified xsi:type="dcterms:W3CDTF">2009-03-12T15:42:04Z</dcterms:modified>
  <cp:revision>1</cp:revision>
  <dc:subject/>
  <dc:title>Slide 1</dc:title>
</cp:coreProperties>
</file>